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FBF9-0BEC-4BFE-8048-EB2EEBBB4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58E5-E76D-464A-B42F-959C580D9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1340-0A09-4415-8EA7-34BFDB40B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EB58-9CF9-40FB-A576-C6B4B52AE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5127-7525-4115-99A9-8A5F28F41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BB4D-FC2E-4645-A0FB-2947400EF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qualities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that underpin a leader’s ability to improve teaching and learning outc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anaakitanga – leading with moral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ono – having self-bel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ko- being a lear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whinatanga – guiding and sup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00E2-9AEC-4A0D-80B0-A434E4BD1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eracy leaders fill in the questionnaire. What are the challenges for each of them? Construct learning intentions from these challe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B749-2CBF-469B-83E4-6DD59B3DB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handout on accessing NZQA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Maths example and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3709-8BE7-4E15-8CEF-BFFBCC729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34F5-4A9C-466C-8980-C66A3964D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C7C2-76AE-48CD-9B51-E6776DA2B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3A77-1EE3-4E0D-92ED-3909F3EF4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1246-3BE9-4051-BBA8-6FEDF13B2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D83A-D580-4459-891E-DDDC97CF8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26E7-40DC-4E3B-9F5E-FEFE3FDB4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681D-2C3C-448F-A057-60F7DE331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075D-12FD-4BFD-94EC-69FD7BFC2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88BC-3CDF-47D3-A626-306627931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C70A-995B-4B41-9BE2-FA1C6D96B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F613-0DE5-4B61-9C85-4130892C0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64F4-A1DF-4A77-BBF5-4CEAA1EFE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1"/>
          <p:cNvSpPr/>
          <p:nvPr/>
        </p:nvSpPr>
        <p:spPr>
          <a:xfrm>
            <a:off x="0" y="0"/>
            <a:ext cx="5486400" cy="914400"/>
          </a:xfrm>
          <a:prstGeom prst="rect">
            <a:avLst/>
          </a:prstGeom>
          <a:solidFill>
            <a:srgbClr val="da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9" descr="6835_powerpoint_v2"/>
          <p:cNvPicPr/>
          <p:nvPr/>
        </p:nvPicPr>
        <p:blipFill>
          <a:blip r:embed="rId2"/>
          <a:stretch/>
        </p:blipFill>
        <p:spPr>
          <a:xfrm>
            <a:off x="0" y="0"/>
            <a:ext cx="9155160" cy="106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logos-joint-bw-lowres.jpg"/>
          <p:cNvPicPr/>
          <p:nvPr/>
        </p:nvPicPr>
        <p:blipFill>
          <a:blip r:embed="rId3"/>
          <a:stretch/>
        </p:blipFill>
        <p:spPr>
          <a:xfrm>
            <a:off x="5638680" y="228600"/>
            <a:ext cx="287676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5497560" y="5319720"/>
            <a:ext cx="3646440" cy="1614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FOED Logo"/>
          <p:cNvPicPr/>
          <p:nvPr/>
        </p:nvPicPr>
        <p:blipFill>
          <a:blip r:embed="rId4"/>
          <a:stretch/>
        </p:blipFill>
        <p:spPr>
          <a:xfrm>
            <a:off x="7010280" y="5943600"/>
            <a:ext cx="1859040" cy="604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role of the literacy leader in subject specific literac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ngare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 November 20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tage 3: Subject specific literacy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subjects have different ways of presenting knowledge, ideas, values and different ways of reading tex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Maths words such as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,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y be impor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History the writer and publication date of a text are impor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me advantages of this approach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 can focus on specific literacy needs of their su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D can be tailored for each su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 can measure improvement in student achievement through their subjec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understand that the literacy demands are different in each su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me problems with this approach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cy leaders have a different role in facilitating subject specific liter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 need to have an understanding of both the content and literacy requirements of their subjec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may be resistant to developing subject specific literacy (proficient readers may need to develop new skill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lace of new texts needs to be consid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at the SSA contract says about literacy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ntract focuses on developing teachers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iteracy and language knowledge and skills to attend to the language demand in each learning a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ject specialists have a collective responsibility to develop (students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literacy and language knowledge, skills and competencies within and across learning areas (focus areas 11-1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rt 2: Literacy leaders as middle leader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460520" y="2057400"/>
            <a:ext cx="622296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teracy leader as a middle leader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your area of greatest challeng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nversations around data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packing asTTle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packing NCEA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rt 3: Engaging with subject specific literacy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Sci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rt 4: How to put it all into practic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o get into dep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o develop support across the school (literacy committee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o develop sustainable chang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y is literacy so important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literacy costs NZ an estimated $3 billion a ye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"Often, the end result of low literacy levels is trapping people in a cycle of poverty, poor health, limited employment opportunities, reduced income potential and low productivity in businesses.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Andrew Ka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earning intention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Literacy Leaders will hav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Developed their awareness of the literacy and language demands inherent in each learning area at NCEA levels 1-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Reviewed their capacity to use data effectively to determine students’ literacy and language strengths and needs at senior lev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Focused their attention on the literacy and language needs of priority learners: Māori, Pasifika, and learners with special educational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Verdana"/>
              </a:rPr>
              <a:t>Reviewed and developed their ability to support middle leaders to respond effectively to the identified literacy and language needs of stud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Visit our website for the resource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leadingliteracynz.wikispaces.com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rt 1: An overview of secondary literacy in NZ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tage 1: Literacy across the curriculum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mphasis on using literacy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strategies across the curriculum (e.g learning through languag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ategies such as reciprocal teaching, KWL, vocab jumble became pop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cy seen as skills-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me advantages of this approach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teachers were positioned as teachers of liter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cy became a focus area in secondary sch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teachers incorporated literacy strategies in ways that improved student achie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me problems with this approach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ategies were difficult to fit into some subject 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teachers did not use the strategies consisten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strategies were taught as isolated skil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tage 2: SLP 2009-11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ocus on upskilling the literacy leader and creating learning communities of literacy lea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cy leader worked with a focus group of teachers, often around the literacy needs of a specific 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idence-based, often still an emphasis on strategies but subject specific literacy also consid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me advantages of this approach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was funding for the literacy leader role and for P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ole of the literacy leader was emphasi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cy leaders across schools formed a national and regional learning 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required an examination of data to measure su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around a specific class often gained more engagement by teac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me problems with this approach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tended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ickle down effect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ometimes did not eventu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ffectiveness was strongly dependent on the literacy lea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teachers did not use the strategies consisten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strategies were taught as isolated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ata used to measure success was focussed on one area (Read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47:52Z</dcterms:created>
  <dc:creator>Studio 4</dc:creator>
  <dc:description/>
  <dc:language>en-US</dc:language>
  <cp:lastModifiedBy>Siliva Gaugatao</cp:lastModifiedBy>
  <cp:lastPrinted>2012-11-20T01:26:44Z</cp:lastPrinted>
  <dcterms:modified xsi:type="dcterms:W3CDTF">2014-07-03T21:38:57Z</dcterms:modified>
  <cp:revision>38</cp:revision>
  <dc:subject/>
  <dc:title>PowerPoint Presentation</dc:title>
</cp:coreProperties>
</file>